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74E-D83C-4376-A487-FE54A1C1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A30-9580-4458-A7A7-D1598C41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71D-119E-425D-AC7C-3AC0BE2C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37E-A7EE-45B8-8417-2043CBC6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B99FA-E2CB-4DFE-8060-A2EBBFDA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2651B-8440-4F63-BC40-907D88B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25DC7-6C9E-45B2-8FF2-E46E5B92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FAE0E-A4C8-47AC-8B7A-3F14B1EE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BEF21-6C62-4974-B65C-B0D7F02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3BE6E-E7BF-4CC6-AB36-E31C151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31E74-8554-4995-9FBB-914DD18A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BDD-2779-470E-816D-854D91E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8B832-D25F-4A14-9D15-E786B2D7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F04A8-66B7-4549-B4E0-1CB22E0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A3EC1-2615-46B9-BD27-141ADF8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90A5C-E319-4C5A-A764-D9BA18FB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F66FA-A0D2-4FF3-800E-71AE89F1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9C5-D57B-4A9D-A0F4-7B98704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F73-A527-4099-909B-D1BBE5F0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79E-56AF-4B44-AB57-68AE0F1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BA9-4645-45D2-BB35-C55F8E7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8E3-7C09-443A-ACCF-DD2BAB75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454-AC7E-48C2-9499-D6310BB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39F-2005-4FD8-BCE0-D6213CB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A6F4-0DC9-4441-8D96-8FA58FE5DD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00B9-9B4D-40D7-A749-565BE6952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rcRect l="27997" t="0" r="0" b="0"/>
          <a:stretch/>
        </p:blipFill>
        <p:spPr>
          <a:xfrm>
            <a:off x="6113520" y="1676520"/>
            <a:ext cx="143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2</cp:lastModifiedBy>
  <dcterms:modified xsi:type="dcterms:W3CDTF">2012-06-19T10:57:1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